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85BD-F0ED-40BB-96E6-B1AAAABB4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EAFFC-0E06-4A8C-824B-579C3ACE8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ECFB6-B2A3-4F2F-B162-8FE8E495C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44B4D-E925-4D0E-83B0-D35D52089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35020-0517-41BA-AE49-3D06823E9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EB29-9D87-4C7C-8524-EC457B38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F57F2-076E-44CE-AE97-C3632D176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837CB-E221-4978-A8BE-FD199BC76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B99D-D476-45B6-94D5-B5C63EF78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810FE-E4AF-46C3-857A-0B57D8DFB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D01EF-827A-445D-9797-4FB86F2F6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5C724-6E3A-40D2-ABE1-E6DF6B51E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5511-E3AB-47A4-867E-27AD1AA34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il Data Subcommittee</a:t>
            </a:r>
            <a:br>
              <a:rPr sz="4400"/>
            </a:br>
            <a:r>
              <a:rPr b="0" lang="en-US" sz="4400" spc="-1" strike="noStrike">
                <a:solidFill>
                  <a:srgbClr val="000000"/>
                </a:solidFill>
                <a:latin typeface="Arial"/>
              </a:rPr>
              <a:t>FY 06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m R. Fortner, Cha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Accomplishments</a:t>
            </a:r>
            <a:endParaRPr b="0" lang="en-US" sz="4000" spc="-1" strike="noStrike">
              <a:solidFill>
                <a:srgbClr val="000000"/>
              </a:solidFill>
              <a:latin typeface="Arial"/>
            </a:endParaRPr>
          </a:p>
        </p:txBody>
      </p:sp>
      <p:sp>
        <p:nvSpPr>
          <p:cNvPr id="44"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rpose and responsibilities of the group</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ination of soil data-related activities among Federal agencies and establishment of a mechanism for the coordinated development, use, sharing, and dissemination of soil data financed in whole or in part by Federal funds.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the Soil Geographic Data Standard </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objective of the Soil Geographic Data Standard is to standardize the names, definitions, ranges of values, and other characteristics of soil survey map attribute data developed by the National Cooperative Soil Survey (NCSS).</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Statu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bcommittee is in ‘inactive’ status</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lishments in 2006</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er was revised to indicate the subcommittee is now composed of members of the National Cooperative Soil Survey standards committe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web page developed</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erging Issues</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y challenge is to find staff time to address needed items.</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members of the NCSS standards committee that will serve as contacts for this subcommittee’s 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identifying parts of the </a:t>
            </a:r>
            <a:r>
              <a:rPr b="0" lang="en-US" sz="1400" spc="-1" strike="noStrike">
                <a:solidFill>
                  <a:srgbClr val="000000"/>
                </a:solidFill>
                <a:latin typeface="Arial"/>
              </a:rPr>
              <a:t>Soil Geographic Data Standard that need upda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16:45:10Z</dcterms:created>
  <dc:creator>adishman</dc:creator>
  <dc:description/>
  <dc:language>en-US</dc:language>
  <cp:lastModifiedBy>adishman</cp:lastModifiedBy>
  <dcterms:modified xsi:type="dcterms:W3CDTF">2006-10-31T15:40:52Z</dcterms:modified>
  <cp:revision>9</cp:revision>
  <dc:subject/>
  <dc:title>Slide 1</dc:title>
</cp:coreProperties>
</file>