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EA33-5791-457B-8FF3-4067E994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442-8373-4A09-AB86-014E4FA0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EBB-6F38-4C2B-B457-76C476D4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9F9-CA47-4C1E-BD2F-30061F9E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A30-BEA3-47A1-9601-9AACC8AF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D3B-1C9B-421D-ACB2-35427D0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8E5-36A2-4129-82B2-4899465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AD9-4559-400D-8FCC-0288003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7F8-3BC9-4C37-A1F0-F4D8173F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83E-E7C6-4D8E-85A5-99924F3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044-7357-48CF-BAD1-5B79562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DF9E-3D99-4A76-B6BD-869265AE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CA99-BAEA-4A25-8192-F7254C12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Boundari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committe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Y 06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Milefsk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of the Geographer and Global 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Accomplish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pose and responsibilities of th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-agency peer review of digitized international boundaries extracted by interpreting treaties, demarcation reports, native maps, serial mapping, imagery, elevation data,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sh approved extracted lines in NGA and State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Department of State guidance for the depiction of problem or disputed bound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objectives for future boundary ext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 on improving attribution data and classification taxonom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and review boundary extraction and background reports for each extracted bou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oup met three times in 2006, and continuing interagency coördination between formal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mplishment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ment of State Boundaries and Sovereignties Encyclopedia website was launched for official government use via OSI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ional Geospatial-Intelligence Agency continues updating its digital international boundaries database on classifi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ing extracted digital international boundaries available to the general mapping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ing standard attribution data, report format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ing State site available over the world-wide We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45:10Z</dcterms:created>
  <dc:creator>adishman</dc:creator>
  <dc:description/>
  <dc:language>en-US</dc:language>
  <cp:lastModifiedBy>adishman</cp:lastModifiedBy>
  <dcterms:modified xsi:type="dcterms:W3CDTF">2006-10-03T19:50:26Z</dcterms:modified>
  <cp:revision>7</cp:revision>
  <dc:subject/>
  <dc:title>Slide 1</dc:title>
</cp:coreProperties>
</file>