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66E-A5EE-4EA6-A678-134B463A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C3C-90A2-400C-91FE-67197CE3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15B-A6B3-4AF6-B7D2-2A8F857B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278-32B9-4CC5-92B5-91D7BE4E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410-700D-46DF-A7B7-1DC85D78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635-DE6C-44B5-8B27-95E4A5A4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2BC-FE4A-41FD-BA45-7472C242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79D-2AE8-4C13-AC65-E21EBB77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4E0-B67A-4EE1-AAA2-184CBD32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125-3CA8-44EE-83A6-620DA655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C1E-C6DF-4304-B6C9-6A34FD48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1E9-3DDA-4931-A7D3-02C393BD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AF0E-8186-4228-92CE-F5857040C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tional Boundar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committe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Y 06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 Milefsk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of the Geographer and Global Iss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Department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Accompl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 and responsibilities of the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-agency peer review of digitized international boundaries extracted by interpreting treaties, demarcation reports, native maps, serial mapping, imagery, elevation data,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sh approved extracted lines in NGA and State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 Department of State guidance for the depiction of problem or disputed bound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 objectives for future boundary extr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 on improving attribution data and classification taxonom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 and review boundary extraction and background reports for each extracted bou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met three times in 2006, and continuing interagency coördination between formal mee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mplishments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ment of State Boundaries and Sovereignties Encyclopedia website was launched for official government use via OSIS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Geospatial-Intelligence Agency continues updating its digital international boundaries database on classifi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ing extracted digital international boundaries available to the general mapping comm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ing standard attribution data, report format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ing State site available over the world-wide We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6:45:10Z</dcterms:created>
  <dc:creator>adishman</dc:creator>
  <dc:description/>
  <dc:language>en-US</dc:language>
  <cp:lastModifiedBy>adishman</cp:lastModifiedBy>
  <dcterms:modified xsi:type="dcterms:W3CDTF">2006-10-03T19:50:26Z</dcterms:modified>
  <cp:revision>7</cp:revision>
  <dc:subject/>
  <dc:title>Slide 1</dc:title>
</cp:coreProperties>
</file>